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45D4-14FA-4EAF-A5C3-81D1B8FB8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ED61-94B0-4FD8-B00E-22520BBA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4B86-D629-468A-8E5F-36E83BADF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AAE5-DBEF-48EC-A737-9467936D7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F4C9-9A65-478A-A954-C3AB8320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5843-E60A-4462-8D80-F43A202F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AD2B-9A35-4DF8-8182-640D5409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4619-6606-46F8-ABDC-A65EA060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2846-0863-488B-A9BE-31292B43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A3C9-5328-4B10-883F-42E6638F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DC0C-FC55-4CCB-BE4F-8E5FB438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B8CD-85BF-4455-BB0C-AB1C4724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F457-B6DE-4ADD-B886-1B4081D929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 Case Descri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eek 1 – Lab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 Case Descri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 months from now, the Grand Cineplex Odeon II is opening in downtown Calgary. It will sport a multilevel parking garage free for movie-goers, enhanced online ticket purchasing, more combos of soda and popcorn, and make a larger dent in your monthly bank statement. They have started the planning for their system infrastructure and part of this involves developing a use case diagram for their system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Acto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ustomers (Movie-goers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icket Salesperson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nag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use cases do we ha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Custom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urchase tickets (online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rint ticket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heck status of movie (sold out, x% full, etc..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heck available seating (which seats, or if it's a "free-for-all"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serve seating (if possible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et parking entrance receipt (by authenticating their ticket, they can enter the parking garage 15 minutes before, and park till 15 minutes after their movie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ay for parking (if they went in earlier or stayed too late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 Case Descrip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4568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The name of the user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scription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 brief description of the use cas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imary Actors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ctors participating in the use cas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ary Actors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ctors that may participat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econdi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What needs to exist for this use case to sta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 Flow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Steps done in this use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stconditions:</a:t>
            </a:r>
            <a:br>
              <a:rPr sz="2400"/>
            </a:b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What should happen by the end of this use case to verify that it is done in a correct 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lternative Flows:</a:t>
            </a:r>
            <a:br>
              <a:rPr sz="2400"/>
            </a:b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 possible alternative flow for the use case (e.g. an error happe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 Case Descrip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4568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ame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urchase Ticke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cription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urchase tickets for a movi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imary Actors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ustomer, Sal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condary Actors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anag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econdition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vie not sold ou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vie play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in Flow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tomer logs into online syste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tomer selects movie theat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tomer selects mov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tomer pays for mov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stcondition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tomer has a ticket ID and/or printed out ticket for a mov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lternative Flow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-Theatre Purcha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alesperson or Manager verifies available tickets for a playing mov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get payment and processes i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 Case Descri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Check Movie Statu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escription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Returns the movie status (tickets left, playing times, etc..)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imary Actors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Customer, Sale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econdary Actors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Manager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econdition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vie exis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ain Flow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 the number of available seats, movie times, etc.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turn to us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ostcondition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n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lternative Flow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n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se Case Descrip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me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Reserve Seating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scription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Reserves seat(s) for a given movi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imary Actor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ustomers, Sal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ary Actor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anager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econdit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vie exis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cket purchased for movi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 Flow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eck to see if the seat is availabl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erve i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 a new ticket if this is done in-theatre, otherwise update the e-ticket numb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ostcondit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osen seat is no longer available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lternative Flow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vie does NOT allow reserved sea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turn an error message to us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 a use case diagram for a shipping company such as UPS or FedEx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ustomers must be able to arrange for a pickup of a package to be delivere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ustomers must be able to check the status of a package, assuming there is a tracking number for i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ustomers must be able to refuse a packag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livery people must be able to determine the next address to deliver a package to, and get directions for i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livery people must be able to confirm a package has been delivered, and store the signature of the signe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ont staff must be able to accept new packages to be shipped, as well as charge customer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uditors must be able to look at past parcel sending history for a particular location or custome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09:19:31Z</dcterms:created>
  <dc:creator>Soha</dc:creator>
  <dc:description/>
  <dc:language>en-US</dc:language>
  <cp:lastModifiedBy>Soha</cp:lastModifiedBy>
  <dcterms:modified xsi:type="dcterms:W3CDTF">2009-04-07T09:27:48Z</dcterms:modified>
  <cp:revision>3</cp:revision>
  <dc:subject/>
  <dc:title>Slide 1</dc:title>
</cp:coreProperties>
</file>